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59D-29C1-462D-B6A6-57F15AB70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0E80-31E8-4911-AD85-F881C84CCA1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1040" y="4328640"/>
            <a:ext cx="5483160" cy="451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35E-4E90-431C-A697-45AA1508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7CC-9EFF-4159-8C20-8F78ACF6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152-1C54-4FF8-9DCE-A40FB8F4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0E7-7154-4123-B606-516EA26E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9D4-89CF-44F8-943B-846C6314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A01-DB61-4ACD-A07F-BD729176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950-838C-47A8-BD0D-7A4BA052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24E-7860-413B-A206-F2DA3D12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5FB-B6CF-4215-92D4-236A406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5DA-04D8-4044-9E9F-8531401D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FD0-2CFB-4357-878C-8AE1C44D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CC2-9443-42D6-86C3-848F4A85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6AAD-ADBE-4BC3-A057-47AC77880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  <a:ea typeface="Arial"/>
              </a:rPr>
              <a:t>Инозитоли у функцији</a:t>
            </a:r>
            <a:r>
              <a:rPr b="1" lang="sr-Latn-RS" sz="4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  <a:ea typeface="Arial"/>
              </a:rPr>
              <a:t> расту и аутоимуности штитасте жлез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Циљна места за дејство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онски кан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з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нспорте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рсте рецеп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цептори јонски кан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цептори везани за Г проте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цептори везани за киназе и слични рецеп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уклеарни рецеп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ете за Г проте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денилат цикл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осфолипаза 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осфолипаза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ремећаји функције штитасте жлез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пер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потиреоидиз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Инозит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о-инозит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 хиро-инозит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одаци исхрани – штитаста жле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л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нтотенска кисе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Лекови у обољењима штитасте жлез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кови за хипер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кови за хипо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357800" y="15001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427640" y="3068640"/>
            <a:ext cx="4232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1" i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Due to the dynamic interplay between education and practice, pharmacy education is also undergoing major reform on a global leve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643280" y="5084640"/>
            <a:ext cx="42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Rouse MJ.  Quality assurance of pharmacy education:  Developing a global framework.  Int Pharm J 2007; 22(1): 9-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3213000"/>
            <a:ext cx="3924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1" i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This process necessitates education in basic sciences and an understanding of basic science princip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843280" y="4762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50920" y="9079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фармација – уметност спровођења рацион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4724280"/>
            <a:ext cx="41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Skau K.  Pharmacy is a science-based profession.  American J Pharm Educ 2007; 71(1):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Almirall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orti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 основу претраживања литературе и извор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einstei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е коморбидитета предлажу следеће дефинициј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оморбидитет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comorbidit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једно или више обољења коегзистира као последица основног 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index diseas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абетес: ендокрино обољење, болест микроангиопатије и макриоангиопатије, неваскуларна обољења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лиморбидитет, мултиморбидите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polymorbidity, multimorbidit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суство више од једног хронич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index disease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 дуготрајног 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абетес и хронична опструктивна болест плу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ифарм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 постоји консензус дефинисања полифарм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тским прегледом литературе, једна од најцитиранијих дефиниција је “Употреба шест или више лекова истовремено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фармација може би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ционална полифарма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appropriate polypharmacy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писивање више лекова пацијенту са присутним коморбидитетом или полиморбидитетом, на основу медицине засноване на доказим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рационална полифарма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roblematic polypharmacy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ипрагмазија – прописивање већег броја лекова, при чему делотворност није постигнута, а оптерећење таблетама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ill burd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ушава адхеренцу и повећава употребу лекова за лечење нежелјених ефеката – прописивачка каск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3"/>
          <p:cNvSpPr/>
          <p:nvPr/>
        </p:nvSpPr>
        <p:spPr>
          <a:xfrm>
            <a:off x="5357880" y="333360"/>
            <a:ext cx="3079800" cy="1523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Repetita iuv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Doctus cum lib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кала антихолинергичког ризи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Anticholinergic Burden Scal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ирок спектар нежељених антимускаринских ефеката (опстипација → конфузиј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лежена бројевима 1 → 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и број, виши антихолинергички ризи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упан збир 3 или више сматра се клинички значајни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цијенти старији од 65% година са укупним збиром већим од 4 имају висок ризик смртности у наредне две године (2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к смртности са сваким бодом повећава се за 2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400" spc="-1" strike="noStrike">
                <a:solidFill>
                  <a:srgbClr val="000000"/>
                </a:solidFill>
                <a:latin typeface="Calibri"/>
              </a:rPr>
              <a:t>Fox C. Anticholinergic Medication Use and cognitive Impairment in the Older Population: The Medical Research Council Cognitive Function and Ageing Study. Journal of the American Geriatrics Society 2011; 59:8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кала антихолинергичког риз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Anticholinergic Burden Scal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413000"/>
          <a:ext cx="8229600" cy="5190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9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0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оперид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етиа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таза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ксе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зод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проп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зеп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еин и други опио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талид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итидин</a:t>
                      </a: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нолол и већина бета блока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гок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росемид и други диуре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анта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дона алкало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оза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трипти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лоф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амазе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карбазе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тири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ата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мети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перам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тиризин и неседирајући антихистами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лорпера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моз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ро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прома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фенамин и већина седирајућих антихистами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триптилин и већина трицикличних антидепрес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ксетин и већина СС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ипр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окси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бути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анзапин и већина атипичних антипсихо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чешћи нежељени ефекти лекова, који захтевају пријем пацијента у болн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агрегациона терапија 16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уретици 15,9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САИЛ 11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коагулантна терапија 8,3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 који се користе у терапији дијабетеса 3,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итивно инотропни лекови 3,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 2,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епилептици 2,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oward R et al. Which drugs cause preventable admissions to hospital? A systematic review. Br J Clin Pharmacol 2006; 63:2; 136-147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крипциона каскада као резултат третма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жељених ефеката лек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125360"/>
          <a:ext cx="8229600" cy="5650200"/>
        </p:xfrm>
        <a:graphic>
          <a:graphicData uri="http://schemas.openxmlformats.org/drawingml/2006/table">
            <a:tbl>
              <a:tblPr/>
              <a:tblGrid>
                <a:gridCol w="2057400"/>
                <a:gridCol w="1028880"/>
                <a:gridCol w="2057400"/>
                <a:gridCol w="1028520"/>
                <a:gridCol w="2057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исани лек за обоље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љени ефек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 за нежељени ефек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бупроф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ертенз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хипертензи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клопрам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инсонз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допа/карбидо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перид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инсониз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итропи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лодипи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росем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апенти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росем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профлоксац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рију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перид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ју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м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ранол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пропио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омн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тазап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непез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инарна инкотинен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бутини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лафакс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м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зеп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перид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рију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перид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јодар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м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ју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атори бета рецеп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рес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преси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триптил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емећаји когни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непез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тиц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стип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арати се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арати се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ре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перам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азеп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утарња поспа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фе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алапр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ша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строметорф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А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уш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хибитори протонске пумпе, Х2 антагони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епраз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ске вредости Б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лементи Б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узрокују апстиненцијалне синдроме (нежељени ефекти) при прекиду терап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лодип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шени крвни притис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конвулз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сиозност, депресија, конвулз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прес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обоља, дрхтавица, иритабилност, знојење, нес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психот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аница, узнемиреност, </a:t>
                      </a: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уцинације, наузе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лоф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итација, конфузија, ноћне море, повећање спазма и ригид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атори бета рецеп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шење срчане фреквенце</a:t>
                      </a: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ријског крвног притискаангиозни болови, анксиоз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тикостерои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рексија, снижење крвног притиска, хипоглике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г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питације, повишење срчане фреквен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урет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ми потколеница, налаз на плућима, повећање телесне ма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апентин (за боло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нот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емећаји спавања, анксиозност, агитација, тре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т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ви, промене мобилности, анксиозност, дијаре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А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ви, поремећаји покретљив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хибитори протонске пум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ушица, поремећаји вар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оглицерин трансдермал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инозни болови, повишење артеријског крвног прит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иничка испитивања код старих пацијен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ка испитивања спроведена у популацији одраслих, углавном укључују пацијенте узраста од 18 до 65 година. Да је ово недовољно широк распон за већину терапијских категорија и да је горња граница исувише ниска указују следећи подац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сници клиничких испитивања требало би да буду репрезентативна група свакодневне клиничке прак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цијенти старији од 65 година чине већину која добија лекове за хронична 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ји од 65 година су растући сегмент популац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снову клиничких испитивања обављених на „млађим стар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younger ol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“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највећи потрошачи лекова су „старији стар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older ol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“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линичким истраживањима примене лекова код старих присутни су следећи изазов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дицин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сок ризик нежељених дејстава лекова, услед фармакокинетских и фармакодинамских промена условљених старењ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шеструки коморбидитет, више од половине старих имају три или више хроничних обољењ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дукована очекивана дужина живота може ограничавати учешће у клиничким истраживањима која трају више годи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уч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ључење из истраживања због погоршања когнитивних функциј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циоеконом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ештај и социјални услови могу да наруше комплијансу са протокол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тич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добијање информисане сагласности старих због њихове вулнерабилности потребно је укључити чланове породице или старао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рмакокинетика, делотворност, безбедност и интеракције лек-лек су анализирани на основу следећих питања изведених и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CH E7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а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/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је индикација у оквиру постојећих смерниц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најмање 100 пацијената старијих од 65 година укључе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ротокол укључује старије од 65 годин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ротокол укључује старије од &gt; 75 годин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геријатрија представљају велики удео у клиничкој бази подата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изузеци на основу стар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изузеци на основу ко-морбидите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за старосне разлике у вези делотворн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за старосне разлике разлике, у односу на дозу одгово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за старосном доби условљене нежељене догађај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су присутне фармакокинетске специфичн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рмакокинетика, делотворност, безбедност и интеракције лек-лек су анализирани на основу следећих питања изведених и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CH E7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/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инцијална фармакокинетска истраживања млади у односу на ста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фармакокинетска истраживања високих појединачних доза, млади у односу на ста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фармакокинетска истраживања поновљених доза, млади у односу на ста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демографских факто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физиолошких факто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је екстензивно излучивање активне супстанце преко бубрег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је екстензивно излучивање активне супстанце преко јет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су описане абнормалне бубрежне функциј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су описане абнормалне функције јет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лек има узак терапијски опсег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релевантан Цитохром П450 метаболиза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испитивања интеракција лек-ле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3"/>
          <p:cNvSpPr/>
          <p:nvPr/>
        </p:nvSpPr>
        <p:spPr>
          <a:xfrm>
            <a:off x="5357880" y="333360"/>
            <a:ext cx="3079800" cy="1523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онављање користи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чен са књигом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потиреоидиза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утоиму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пклинички хиотиреоидизам се налази у 6-8% жена и 3% мушкара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зроци хипотиреоидиз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ла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кундар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утоимунски хипотиреоидиз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бклинички хипо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и хипотиреоидизам (манифестни хипотиреоидиза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линичке манифестације хипотиреоидиз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на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иреоидни хормо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ирок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ироз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лцитон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егулација тиреоидне осов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иреотропин (ТС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иреотрофни 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иреотропни 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21-06-29T08:08:03Z</dcterms:modified>
  <cp:revision>8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